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9.pct" ContentType="image/x-pict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FA24-EA8A-47AF-82DE-0BBC24345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55F8-B7D2-4440-8B68-F1D5B4C21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19A-F424-47FC-A94C-D7C94A07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w away the last term and expand the second to 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6EA3-B298-4EB2-9210-DD8CFD946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w away the last term and expand the second to 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DF36-9905-4AA4-B2A9-62EFE34D1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1A55-6D88-4E6E-A05C-617182D8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w away the last term and expand the second to 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A1A-0AFE-4B7F-B2CE-B213B988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E55-5E7D-49F8-A602-60619BE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FA5-F012-40DD-A329-FEDDEB12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249-2DAA-46B8-B60A-E251DD6A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3E9-2ACA-4A28-901E-4CCCE3CC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E7C-25D2-4D58-8707-6DA0920B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770-02F7-4A6F-BE99-E33172EA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09C-28F6-43D2-85C6-7BAF14FF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00E-9ABB-4976-8CB4-908F6FDB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5C9-B1D6-4F9C-B405-036DE83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D58-5646-4FE9-9A64-2C48019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F44-9C4B-4395-B45A-17006DA9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B536-FAC0-4AB6-94AC-CA84191A9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262880" y="563400"/>
            <a:ext cx="638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an Adjoint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S-CH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05936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51320" y="3430440"/>
            <a:ext cx="377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en H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H. Seinf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t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llaboration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vard / JPL / U. To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"/>
          <p:cNvSpPr/>
          <p:nvPr/>
        </p:nvSpPr>
        <p:spPr>
          <a:xfrm flipH="1">
            <a:off x="973080" y="5502240"/>
            <a:ext cx="6958080" cy="690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957240" y="2735280"/>
            <a:ext cx="6958080" cy="690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8369280" y="2990880"/>
            <a:ext cx="608040" cy="2751120"/>
          </a:xfrm>
          <a:custGeom>
            <a:avLst/>
            <a:gdLst>
              <a:gd name="textAreaLeft" fmla="*/ 81360 w 608040"/>
              <a:gd name="textAreaRight" fmla="*/ 526680 w 608040"/>
              <a:gd name="textAreaTop" fmla="*/ 481320 h 2751120"/>
              <a:gd name="textAreaBottom" fmla="*/ 1994760 h 27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/>
          <p:cNvSpPr/>
          <p:nvPr/>
        </p:nvSpPr>
        <p:spPr>
          <a:xfrm flipH="1" flipV="1">
            <a:off x="227520" y="2971800"/>
            <a:ext cx="608040" cy="2751120"/>
          </a:xfrm>
          <a:custGeom>
            <a:avLst/>
            <a:gdLst>
              <a:gd name="textAreaLeft" fmla="*/ 81360 w 608040"/>
              <a:gd name="textAreaRight" fmla="*/ 526680 w 608040"/>
              <a:gd name="textAreaTop" fmla="*/ 481320 h 2751120"/>
              <a:gd name="textAreaBottom" fmla="*/ 1994760 h 27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47680" y="5311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&#13;image-161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679320" y="1557360"/>
            <a:ext cx="7488360" cy="90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&#13;image-162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2336760" y="2637000"/>
            <a:ext cx="5553000" cy="1012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90080" y="10350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153120" y="2666880"/>
            <a:ext cx="1255680" cy="91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385320" y="371484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&gt;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47680" y="5311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&#13;image-161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679320" y="1557360"/>
            <a:ext cx="7488360" cy="909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90080" y="10350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&#13;image-164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2658960" y="2706840"/>
            <a:ext cx="5353200" cy="9777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47680" y="5140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&#13;image-164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1177920" y="1917720"/>
            <a:ext cx="4295880" cy="78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&#13;image-161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384120" y="1109520"/>
            <a:ext cx="6527880" cy="793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47680" y="5140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4040" y="272736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solve the adjoint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&#13;image-164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1177920" y="1917720"/>
            <a:ext cx="4295880" cy="784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&#13;image-161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384120" y="1109520"/>
            <a:ext cx="6527880" cy="793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&#13;image-166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1031760" y="3325680"/>
            <a:ext cx="2567160" cy="744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4303800" y="1128600"/>
            <a:ext cx="1890720" cy="790560"/>
          </a:xfrm>
          <a:prstGeom prst="rect">
            <a:avLst/>
          </a:prstGeom>
          <a:noFill/>
          <a:ln w="19080">
            <a:solidFill>
              <a:srgbClr val="1219c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47680" y="5140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94040" y="272736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solve the adjoint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15640" y="420840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the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&#13;image-164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1177920" y="1917720"/>
            <a:ext cx="4295880" cy="7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&#13;image-161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384120" y="1109520"/>
            <a:ext cx="6527880" cy="793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&#13;image-166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1031760" y="3325680"/>
            <a:ext cx="2567160" cy="74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&#13;image-169.pdf                                                  003AFEF5_x0006_Tybalt                         BBC80D2A:"/>
          <p:cNvPicPr/>
          <p:nvPr/>
        </p:nvPicPr>
        <p:blipFill>
          <a:blip r:embed="rId4"/>
          <a:stretch/>
        </p:blipFill>
        <p:spPr>
          <a:xfrm>
            <a:off x="1284120" y="4667400"/>
            <a:ext cx="2203560" cy="7682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4303800" y="1128600"/>
            <a:ext cx="1890720" cy="790560"/>
          </a:xfrm>
          <a:prstGeom prst="rect">
            <a:avLst/>
          </a:prstGeom>
          <a:noFill/>
          <a:ln w="19080">
            <a:solidFill>
              <a:srgbClr val="1219c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1128600" y="1112760"/>
            <a:ext cx="1735200" cy="1622520"/>
          </a:xfrm>
          <a:prstGeom prst="rect">
            <a:avLst/>
          </a:prstGeom>
          <a:noFill/>
          <a:ln w="19080">
            <a:solidFill>
              <a:srgbClr val="0998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47680" y="5140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94040" y="272736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solve the adjoint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03040" y="5583240"/>
            <a:ext cx="711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gradi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djoint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5640" y="420840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the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&#13;image-164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1177920" y="1917720"/>
            <a:ext cx="4295880" cy="784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&#13;image-161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384120" y="1109520"/>
            <a:ext cx="6527880" cy="793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&#13;image-166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1031760" y="3325680"/>
            <a:ext cx="2567160" cy="744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&#13;image-169.pdf                                                  003AFEF5_x0006_Tybalt                         BBC80D2A:"/>
          <p:cNvPicPr/>
          <p:nvPr/>
        </p:nvPicPr>
        <p:blipFill>
          <a:blip r:embed="rId4"/>
          <a:stretch/>
        </p:blipFill>
        <p:spPr>
          <a:xfrm>
            <a:off x="1284120" y="4667400"/>
            <a:ext cx="2203560" cy="7682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1"/>
          <p:cNvSpPr/>
          <p:nvPr/>
        </p:nvSpPr>
        <p:spPr>
          <a:xfrm>
            <a:off x="4303800" y="1128600"/>
            <a:ext cx="1890720" cy="790560"/>
          </a:xfrm>
          <a:prstGeom prst="rect">
            <a:avLst/>
          </a:prstGeom>
          <a:noFill/>
          <a:ln w="19080">
            <a:solidFill>
              <a:srgbClr val="1219c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1128600" y="1112760"/>
            <a:ext cx="1735200" cy="1622520"/>
          </a:xfrm>
          <a:prstGeom prst="rect">
            <a:avLst/>
          </a:prstGeom>
          <a:noFill/>
          <a:ln w="19080">
            <a:solidFill>
              <a:srgbClr val="0998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68200" y="1312920"/>
            <a:ext cx="550800" cy="407880"/>
          </a:xfrm>
          <a:prstGeom prst="rect">
            <a:avLst/>
          </a:prstGeom>
          <a:noFill/>
          <a:ln w="19080">
            <a:solidFill>
              <a:srgbClr val="d521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4160880" y="2141640"/>
            <a:ext cx="877680" cy="425520"/>
          </a:xfrm>
          <a:prstGeom prst="rect">
            <a:avLst/>
          </a:prstGeom>
          <a:noFill/>
          <a:ln w="19080">
            <a:solidFill>
              <a:srgbClr val="d521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7" descr="&#13;image-226.pdf                                                  003AFEF5_x0006_Tybalt                         BBC80D2A:"/>
          <p:cNvPicPr/>
          <p:nvPr/>
        </p:nvPicPr>
        <p:blipFill>
          <a:blip r:embed="rId5"/>
          <a:stretch/>
        </p:blipFill>
        <p:spPr>
          <a:xfrm>
            <a:off x="1273320" y="6094440"/>
            <a:ext cx="3187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47680" y="5611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40" y="154944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 if we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-1800" y="3583080"/>
            <a:ext cx="57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the variation of the cost functional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&#13;image-171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979560" y="5527800"/>
            <a:ext cx="4695840" cy="857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&#13;image-181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417600" y="4351320"/>
            <a:ext cx="8442360" cy="885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&#13;image-182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547560" y="2162160"/>
            <a:ext cx="4013280" cy="965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2" descr="&#13;image-227.pdf                                                  003AFEF5_x0006_Tybalt                         BBC80D2A:"/>
          <p:cNvPicPr/>
          <p:nvPr/>
        </p:nvPicPr>
        <p:blipFill>
          <a:blip r:embed="rId4"/>
          <a:stretch/>
        </p:blipFill>
        <p:spPr>
          <a:xfrm>
            <a:off x="5748480" y="5521320"/>
            <a:ext cx="3195360" cy="87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&#13;image-228.pdf                                                  003AFEF5_x0006_Tybalt                         BBC80D2A:"/>
          <p:cNvPicPr/>
          <p:nvPr/>
        </p:nvPicPr>
        <p:blipFill>
          <a:blip r:embed="rId5"/>
          <a:stretch/>
        </p:blipFill>
        <p:spPr>
          <a:xfrm>
            <a:off x="3086280" y="2440080"/>
            <a:ext cx="1447560" cy="482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&#13;image-246.pdf                                                  003AFEF5_x0006_Tybalt                         BBC80D2A:"/>
          <p:cNvPicPr/>
          <p:nvPr/>
        </p:nvPicPr>
        <p:blipFill>
          <a:blip r:embed="rId6"/>
          <a:stretch/>
        </p:blipFill>
        <p:spPr>
          <a:xfrm>
            <a:off x="6872400" y="4414680"/>
            <a:ext cx="1035000" cy="7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47680" y="5597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90440" y="130968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 the adjoint equ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7" descr="&#13;image-154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1220760" y="3778200"/>
            <a:ext cx="7096320" cy="1015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8"/>
          <p:cNvSpPr/>
          <p:nvPr/>
        </p:nvSpPr>
        <p:spPr>
          <a:xfrm>
            <a:off x="150120" y="330660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ariation of the cost functional reduc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9" descr="&#13;image-183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1411200" y="1868400"/>
            <a:ext cx="3916440" cy="919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0"/>
          <p:cNvSpPr/>
          <p:nvPr/>
        </p:nvSpPr>
        <p:spPr>
          <a:xfrm>
            <a:off x="248040" y="526896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nce the desired gradient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22" descr="&#13;image-231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4770360" y="5622840"/>
            <a:ext cx="3132360" cy="981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&#13;image-233.pdf                                                  003AFEF5_x0006_Tybalt                         BBC80D2A:"/>
          <p:cNvPicPr/>
          <p:nvPr/>
        </p:nvPicPr>
        <p:blipFill>
          <a:blip r:embed="rId4"/>
          <a:stretch/>
        </p:blipFill>
        <p:spPr>
          <a:xfrm>
            <a:off x="1382760" y="5899320"/>
            <a:ext cx="28051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47680" y="5140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401920" y="17398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877360" y="175104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rst Order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3" descr="&#13;image-188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5634000" y="2425680"/>
            <a:ext cx="2666880" cy="743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&#13;image-189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5495760" y="3567240"/>
            <a:ext cx="3095640" cy="742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&#13;image-190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1658880" y="3568680"/>
            <a:ext cx="2559240" cy="743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&#13;image-191.pdf                                                  003AFEF5_x0006_Tybalt                         BBC80D2A:"/>
          <p:cNvPicPr/>
          <p:nvPr/>
        </p:nvPicPr>
        <p:blipFill>
          <a:blip r:embed="rId4"/>
          <a:stretch/>
        </p:blipFill>
        <p:spPr>
          <a:xfrm>
            <a:off x="1743120" y="4686480"/>
            <a:ext cx="2646360" cy="820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&#13;image-192.pdf                                                  003AFEF5_x0006_Tybalt                         BBC80D2A:"/>
          <p:cNvPicPr/>
          <p:nvPr/>
        </p:nvPicPr>
        <p:blipFill>
          <a:blip r:embed="rId5"/>
          <a:stretch/>
        </p:blipFill>
        <p:spPr>
          <a:xfrm>
            <a:off x="1882800" y="2452680"/>
            <a:ext cx="2519280" cy="741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&#13;image-193.pdf                                                  003AFEF5_x0006_Tybalt                         BBC80D2A:"/>
          <p:cNvPicPr/>
          <p:nvPr/>
        </p:nvPicPr>
        <p:blipFill>
          <a:blip r:embed="rId6"/>
          <a:stretch/>
        </p:blipFill>
        <p:spPr>
          <a:xfrm>
            <a:off x="5707080" y="4564080"/>
            <a:ext cx="2490840" cy="9176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9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2227680" y="1204920"/>
            <a:ext cx="44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 of possibl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360360" y="2643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W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515160" y="37558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30040" y="482616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1030320" y="3316320"/>
            <a:ext cx="764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1014480" y="4484520"/>
            <a:ext cx="764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H="1">
            <a:off x="4995360" y="2343240"/>
            <a:ext cx="1800" cy="32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H="1">
            <a:off x="1491840" y="2395440"/>
            <a:ext cx="1800" cy="328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713880" y="6013440"/>
            <a:ext cx="75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52121"/>
                </a:solidFill>
                <a:latin typeface="Times New Roman"/>
              </a:rPr>
              <a:t>Adjoint solution fairly invariant to choice of paramet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02320" y="12873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a discrete governing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1" descr="&#13;image-200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833400" y="1843200"/>
            <a:ext cx="2036880" cy="4111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3"/>
          <p:cNvSpPr/>
          <p:nvPr/>
        </p:nvSpPr>
        <p:spPr>
          <a:xfrm>
            <a:off x="251280" y="368784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angent linear model is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4" descr="&#13;image-201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811080" y="4346640"/>
            <a:ext cx="2600280" cy="4492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7"/>
          <p:cNvSpPr/>
          <p:nvPr/>
        </p:nvSpPr>
        <p:spPr>
          <a:xfrm>
            <a:off x="322920" y="487980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interes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8" descr="&#13;image-202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787320" y="5450040"/>
            <a:ext cx="2514600" cy="774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0"/>
          <p:cNvSpPr/>
          <p:nvPr/>
        </p:nvSpPr>
        <p:spPr>
          <a:xfrm>
            <a:off x="1400760" y="19512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Discrete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2" descr="&#13;image-235.pdf                                                  003AFEF5_x0006_Tybalt                         BBC80D2A:"/>
          <p:cNvPicPr/>
          <p:nvPr/>
        </p:nvPicPr>
        <p:blipFill>
          <a:blip r:embed="rId4"/>
          <a:stretch/>
        </p:blipFill>
        <p:spPr>
          <a:xfrm>
            <a:off x="4010040" y="1828800"/>
            <a:ext cx="2597040" cy="422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3" descr="&#13;image-236.pdf                                                  003AFEF5_x0006_Tybalt                         BBC80D2A:"/>
          <p:cNvPicPr/>
          <p:nvPr/>
        </p:nvPicPr>
        <p:blipFill>
          <a:blip r:embed="rId5"/>
          <a:stretch/>
        </p:blipFill>
        <p:spPr>
          <a:xfrm>
            <a:off x="3486240" y="5442120"/>
            <a:ext cx="3638520" cy="7776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4"/>
          <p:cNvSpPr/>
          <p:nvPr/>
        </p:nvSpPr>
        <p:spPr>
          <a:xfrm>
            <a:off x="232560" y="2473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the local Jaco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5" descr="&#13;image-237.pdf                                                  003AFEF5_x0006_Tybalt                         BBC80D2A:"/>
          <p:cNvPicPr/>
          <p:nvPr/>
        </p:nvPicPr>
        <p:blipFill>
          <a:blip r:embed="rId6"/>
          <a:stretch/>
        </p:blipFill>
        <p:spPr>
          <a:xfrm>
            <a:off x="676440" y="2887560"/>
            <a:ext cx="32590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1960560"/>
            <a:ext cx="9040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n Introduction to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djoint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02320" y="12873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a discrete governing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&#13;image-200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833400" y="1843200"/>
            <a:ext cx="2036880" cy="411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251280" y="368784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angent linear model is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6" descr="&#13;image-201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811080" y="4346640"/>
            <a:ext cx="2600280" cy="4492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322920" y="487980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interes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9" descr="&#13;image-202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787320" y="5450040"/>
            <a:ext cx="2514600" cy="7747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1"/>
          <p:cNvSpPr/>
          <p:nvPr/>
        </p:nvSpPr>
        <p:spPr>
          <a:xfrm>
            <a:off x="1400760" y="19512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Discrete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3909960" y="5248440"/>
            <a:ext cx="2963880" cy="0"/>
          </a:xfrm>
          <a:prstGeom prst="line">
            <a:avLst/>
          </a:prstGeom>
          <a:ln w="28440">
            <a:solidFill>
              <a:srgbClr val="d521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7234560" y="5027760"/>
            <a:ext cx="1683720" cy="459720"/>
          </a:xfrm>
          <a:prstGeom prst="rect">
            <a:avLst/>
          </a:prstGeom>
          <a:noFill/>
          <a:ln w="9360">
            <a:solidFill>
              <a:srgbClr val="d52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121"/>
                </a:solidFill>
                <a:latin typeface="Times New Roman"/>
              </a:rPr>
              <a:t>(N-1)m</a:t>
            </a:r>
            <a:r>
              <a:rPr b="0" lang="en-US" sz="2400" spc="-1" strike="noStrike" baseline="30000">
                <a:solidFill>
                  <a:srgbClr val="d52121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52121"/>
                </a:solidFill>
                <a:latin typeface="Times New Roman"/>
              </a:rPr>
              <a:t>+m</a:t>
            </a:r>
            <a:r>
              <a:rPr b="0" lang="en-US" sz="2400" spc="-1" strike="noStrike" baseline="30000">
                <a:solidFill>
                  <a:srgbClr val="d521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6" descr="&#13;image-235.pdf                                                  003AFEF5_x0006_Tybalt                         BBC80D2A:"/>
          <p:cNvPicPr/>
          <p:nvPr/>
        </p:nvPicPr>
        <p:blipFill>
          <a:blip r:embed="rId4"/>
          <a:stretch/>
        </p:blipFill>
        <p:spPr>
          <a:xfrm>
            <a:off x="4010040" y="1828800"/>
            <a:ext cx="2597040" cy="422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&#13;image-236.pdf                                                  003AFEF5_x0006_Tybalt                         BBC80D2A:"/>
          <p:cNvPicPr/>
          <p:nvPr/>
        </p:nvPicPr>
        <p:blipFill>
          <a:blip r:embed="rId5"/>
          <a:stretch/>
        </p:blipFill>
        <p:spPr>
          <a:xfrm>
            <a:off x="3486240" y="5442120"/>
            <a:ext cx="3638520" cy="777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8"/>
          <p:cNvSpPr/>
          <p:nvPr/>
        </p:nvSpPr>
        <p:spPr>
          <a:xfrm>
            <a:off x="232560" y="2473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the local Jaco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9" descr="&#13;image-237.pdf                                                  003AFEF5_x0006_Tybalt                         BBC80D2A:"/>
          <p:cNvPicPr/>
          <p:nvPr/>
        </p:nvPicPr>
        <p:blipFill>
          <a:blip r:embed="rId6"/>
          <a:stretch/>
        </p:blipFill>
        <p:spPr>
          <a:xfrm>
            <a:off x="676440" y="2887560"/>
            <a:ext cx="32590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02320" y="12873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a discrete governing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232560" y="2473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the local Jaco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&#13;image-200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833400" y="1843200"/>
            <a:ext cx="203688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251280" y="368784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angent linear model is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&#13;image-201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811080" y="4346640"/>
            <a:ext cx="2600280" cy="449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322920" y="487980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interes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9" descr="&#13;image-202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787320" y="5450040"/>
            <a:ext cx="2514600" cy="774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0"/>
          <p:cNvSpPr/>
          <p:nvPr/>
        </p:nvSpPr>
        <p:spPr>
          <a:xfrm>
            <a:off x="1400760" y="19512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Discrete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3909960" y="5248440"/>
            <a:ext cx="2963880" cy="0"/>
          </a:xfrm>
          <a:prstGeom prst="line">
            <a:avLst/>
          </a:prstGeom>
          <a:ln w="28440">
            <a:solidFill>
              <a:srgbClr val="d521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234560" y="5027760"/>
            <a:ext cx="1683720" cy="459720"/>
          </a:xfrm>
          <a:prstGeom prst="rect">
            <a:avLst/>
          </a:prstGeom>
          <a:noFill/>
          <a:ln w="9360">
            <a:solidFill>
              <a:srgbClr val="d52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121"/>
                </a:solidFill>
                <a:latin typeface="Times New Roman"/>
              </a:rPr>
              <a:t>(N-1)m</a:t>
            </a:r>
            <a:r>
              <a:rPr b="0" lang="en-US" sz="2400" spc="-1" strike="noStrike" baseline="30000">
                <a:solidFill>
                  <a:srgbClr val="d52121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52121"/>
                </a:solidFill>
                <a:latin typeface="Times New Roman"/>
              </a:rPr>
              <a:t>+m</a:t>
            </a:r>
            <a:r>
              <a:rPr b="0" lang="en-US" sz="2400" spc="-1" strike="noStrike" baseline="30000">
                <a:solidFill>
                  <a:srgbClr val="d521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4" descr="&#13;image-235.pdf                                                  003AFEF5_x0006_Tybalt                         BBC80D2A:"/>
          <p:cNvPicPr/>
          <p:nvPr/>
        </p:nvPicPr>
        <p:blipFill>
          <a:blip r:embed="rId4"/>
          <a:stretch/>
        </p:blipFill>
        <p:spPr>
          <a:xfrm>
            <a:off x="4010040" y="1828800"/>
            <a:ext cx="2597040" cy="422280"/>
          </a:xfrm>
          <a:prstGeom prst="rect">
            <a:avLst/>
          </a:prstGeom>
          <a:ln w="0">
            <a:noFill/>
          </a:ln>
        </p:spPr>
      </p:pic>
      <p:sp>
        <p:nvSpPr>
          <p:cNvPr id="246" name="Line 15"/>
          <p:cNvSpPr/>
          <p:nvPr/>
        </p:nvSpPr>
        <p:spPr>
          <a:xfrm flipH="1">
            <a:off x="3906360" y="6402240"/>
            <a:ext cx="2963880" cy="0"/>
          </a:xfrm>
          <a:prstGeom prst="line">
            <a:avLst/>
          </a:prstGeom>
          <a:ln w="28440">
            <a:solidFill>
              <a:srgbClr val="d521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7226640" y="6181560"/>
            <a:ext cx="726480" cy="459720"/>
          </a:xfrm>
          <a:prstGeom prst="rect">
            <a:avLst/>
          </a:prstGeom>
          <a:noFill/>
          <a:ln w="9360">
            <a:solidFill>
              <a:srgbClr val="d52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121"/>
                </a:solidFill>
                <a:latin typeface="Times New Roman"/>
              </a:rPr>
              <a:t>Nm</a:t>
            </a:r>
            <a:r>
              <a:rPr b="0" lang="en-US" sz="2400" spc="-1" strike="noStrike" baseline="30000">
                <a:solidFill>
                  <a:srgbClr val="d521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7" descr="&#13;image-236.pdf                                                  003AFEF5_x0006_Tybalt                         BBC80D2A:"/>
          <p:cNvPicPr/>
          <p:nvPr/>
        </p:nvPicPr>
        <p:blipFill>
          <a:blip r:embed="rId5"/>
          <a:stretch/>
        </p:blipFill>
        <p:spPr>
          <a:xfrm>
            <a:off x="3486240" y="5442120"/>
            <a:ext cx="3638520" cy="77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&#13;image-237.pdf                                                  003AFEF5_x0006_Tybalt                         BBC80D2A:"/>
          <p:cNvPicPr/>
          <p:nvPr/>
        </p:nvPicPr>
        <p:blipFill>
          <a:blip r:embed="rId6"/>
          <a:stretch/>
        </p:blipFill>
        <p:spPr>
          <a:xfrm>
            <a:off x="676440" y="2887560"/>
            <a:ext cx="32590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8" descr="&#13;image-207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685800" y="1735200"/>
            <a:ext cx="1481040" cy="741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&#13;image-209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708120" y="3346560"/>
            <a:ext cx="3457440" cy="963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&#13;image-210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1173240" y="4700520"/>
            <a:ext cx="2746440" cy="963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&#13;image-211.pdf                                                  003AFEF5_x0006_Tybalt                         BBC80D2A:"/>
          <p:cNvPicPr/>
          <p:nvPr/>
        </p:nvPicPr>
        <p:blipFill>
          <a:blip r:embed="rId4"/>
          <a:stretch/>
        </p:blipFill>
        <p:spPr>
          <a:xfrm>
            <a:off x="1155600" y="6087960"/>
            <a:ext cx="157824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3"/>
          <p:cNvSpPr/>
          <p:nvPr/>
        </p:nvSpPr>
        <p:spPr>
          <a:xfrm>
            <a:off x="1400760" y="19512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Discrete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118080" y="1163520"/>
            <a:ext cx="36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the adjoi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131040" y="27972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 the right hand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-3960" y="136692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ulate the desired gradient using an iterativ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480680" y="318276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k = N, 1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046880" y="43671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2" descr="&#13;image-212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954000" y="5219640"/>
            <a:ext cx="1994040" cy="439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4" descr="&#13;image-214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1687680" y="3782880"/>
            <a:ext cx="2687400" cy="501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&#13;image-215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958680" y="1990800"/>
            <a:ext cx="1903680" cy="855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6"/>
          <p:cNvSpPr/>
          <p:nvPr/>
        </p:nvSpPr>
        <p:spPr>
          <a:xfrm>
            <a:off x="1400760" y="19512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Discrete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-5040" y="2600280"/>
            <a:ext cx="89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the following line of computer code stepping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-2160" y="3922560"/>
            <a:ext cx="37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ctive variables x, y, z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11000" y="323532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z = x ** 2 + y * b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&#13;image-221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976320" y="4448160"/>
            <a:ext cx="5649840" cy="15717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400400" y="195120"/>
            <a:ext cx="60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ing the Discrete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92160" y="1273320"/>
            <a:ext cx="86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joint is built line by line directly from the code for the forward model.  This can be done automatically using automatic differentiation software such as TAM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5680" y="6256440"/>
          <a:ext cx="8383680" cy="53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" y="6256440"/>
                    <a:ext cx="8383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1922400" y="5111640"/>
            <a:ext cx="40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z_adj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x_adj = 2 * x * z_adj + x_a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y_adj =       b * z_adj + y_a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-1440" y="114768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the discrete adjoint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6" descr="&#13;image-220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522360" y="2451240"/>
            <a:ext cx="5425920" cy="1593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&#13;image-214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1355760" y="1879560"/>
            <a:ext cx="2251080" cy="4208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1400400" y="195120"/>
            <a:ext cx="60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ing the Discrete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-1800" y="457200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mputer code for the adjoint model is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4084560" y="35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441080" y="237960"/>
            <a:ext cx="63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omatic Differenti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50200" y="1216080"/>
            <a:ext cx="8666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nerate adjoint code directly in a manner of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reat complicated, nonlinear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reat loops, conditionals, and other programm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have trouble with statements which mask information f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OTO, RETURN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available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C, Odyssée, TAPENADE, ADIFOR, T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PP, AutoChem -- specialized for chemical ki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4"/>
          <p:cNvSpPr/>
          <p:nvPr/>
        </p:nvSpPr>
        <p:spPr>
          <a:xfrm>
            <a:off x="590400" y="2505240"/>
            <a:ext cx="2880000" cy="69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5160960" y="1076400"/>
            <a:ext cx="2879640" cy="69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4906800" y="2517840"/>
            <a:ext cx="36133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606600" y="1111320"/>
            <a:ext cx="2879640" cy="69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2417040" y="193680"/>
            <a:ext cx="42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ous vs. Dis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685800" y="10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96600" y="122724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408640" y="1228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811800" y="2612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int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5013720" y="26272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Adjoint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54160" y="3605040"/>
            <a:ext cx="837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1219c9"/>
                </a:solidFill>
                <a:latin typeface="Times New Roman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joint is only accurate to O(∆t,∆x,…) but is often conceptually in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311040" y="4432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d52121"/>
                </a:solidFill>
                <a:latin typeface="Times New Roman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joint is accurate to numerical precision but may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m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1715760" y="6248520"/>
            <a:ext cx="57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Sirkes and Tziperman, 1997; Giles and Pierce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3753000" y="1407960"/>
            <a:ext cx="1171440" cy="0"/>
          </a:xfrm>
          <a:prstGeom prst="line">
            <a:avLst/>
          </a:prstGeom>
          <a:ln w="38160">
            <a:solidFill>
              <a:srgbClr val="d521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6632640" y="1887480"/>
            <a:ext cx="0" cy="507960"/>
          </a:xfrm>
          <a:prstGeom prst="line">
            <a:avLst/>
          </a:prstGeom>
          <a:ln w="38160">
            <a:solidFill>
              <a:srgbClr val="d521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0"/>
          <p:cNvSpPr/>
          <p:nvPr/>
        </p:nvSpPr>
        <p:spPr>
          <a:xfrm>
            <a:off x="3610080" y="2871720"/>
            <a:ext cx="1171440" cy="0"/>
          </a:xfrm>
          <a:prstGeom prst="line">
            <a:avLst/>
          </a:prstGeom>
          <a:ln w="38160">
            <a:solidFill>
              <a:srgbClr val="1219c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1"/>
          <p:cNvSpPr/>
          <p:nvPr/>
        </p:nvSpPr>
        <p:spPr>
          <a:xfrm>
            <a:off x="2058840" y="1897200"/>
            <a:ext cx="0" cy="507960"/>
          </a:xfrm>
          <a:prstGeom prst="line">
            <a:avLst/>
          </a:prstGeom>
          <a:ln w="38160">
            <a:solidFill>
              <a:srgbClr val="1219c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03040" y="5308560"/>
            <a:ext cx="89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end, both methods are correct. Though the discrete approach is generally preferred, choice may depend on appl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-2160" y="1600200"/>
            <a:ext cx="4457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0603"/>
                </a:solidFill>
                <a:latin typeface="Times New Roman"/>
              </a:rPr>
              <a:t>Aerosol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t De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stry (Dry D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Conv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t Mi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28240" y="114300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es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4114800" y="2514600"/>
            <a:ext cx="457200" cy="3733920"/>
          </a:xfrm>
          <a:custGeom>
            <a:avLst/>
            <a:gdLst>
              <a:gd name="textAreaLeft" fmla="*/ 0 w 457200"/>
              <a:gd name="textAreaRight" fmla="*/ 164880 w 4572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724280" y="411480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een done before for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.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chuk, 1974;Vukicevic and Hess, 2000; Elbern et. al., 2000, Sandu et. al, 2004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4861080" y="1219320"/>
            <a:ext cx="42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ux of aerosol adj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: can’t derive continuous adjoint and can’t treat with 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0" y="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ructing an Adjoint of GEOS-CH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EOS-3, v6-01-05) Offline Aerosol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2"/>
          <p:cNvSpPr/>
          <p:nvPr/>
        </p:nvSpPr>
        <p:spPr>
          <a:xfrm>
            <a:off x="3505320" y="1981080"/>
            <a:ext cx="274320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831320" y="152280"/>
            <a:ext cx="650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mple Thermodynamic Mo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38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225360" y="4210200"/>
            <a:ext cx="450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only two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ate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ate p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mely Method for activity co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SR Method fo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143000" y="2971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26080" y="205740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ncen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organic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640080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6400800" y="3124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6342120" y="1371600"/>
            <a:ext cx="160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6445080" y="3352680"/>
            <a:ext cx="2324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sol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, H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4105440" y="2514600"/>
            <a:ext cx="185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M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945080" y="12384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vation for Inverse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31840" y="2682720"/>
            <a:ext cx="891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Analys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sources of model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Mode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ssimilation ( optimizing state variables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rameter esti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strateg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which types / locations of observations most cons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0" y="1062000"/>
            <a:ext cx="87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transport models are a crucial link in the synergy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 and experiment in atmospheric science.  We seek to approach closure between model predictions and experimental obser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1219320" y="1295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IF ( 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619280" y="182880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523880" y="3079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>
            <a:off x="752400" y="1336680"/>
            <a:ext cx="40968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H="1">
            <a:off x="304920" y="3352680"/>
            <a:ext cx="12189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1295280" y="367344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LSEIF ( B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1600200" y="414648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523880" y="5518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304920" y="579132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1310400" y="591336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8"/>
          <p:cNvSpPr/>
          <p:nvPr/>
        </p:nvSpPr>
        <p:spPr>
          <a:xfrm>
            <a:off x="457200" y="6553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9"/>
          <p:cNvSpPr/>
          <p:nvPr/>
        </p:nvSpPr>
        <p:spPr>
          <a:xfrm flipV="1">
            <a:off x="6781680" y="4267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4648320" y="1828800"/>
            <a:ext cx="1981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d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6858000" y="1828800"/>
            <a:ext cx="2133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d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3"/>
          <p:cNvSpPr/>
          <p:nvPr/>
        </p:nvSpPr>
        <p:spPr>
          <a:xfrm flipV="1">
            <a:off x="6934320" y="28954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 flipH="1" flipV="1">
            <a:off x="5866920" y="29718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6477840" y="32767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2160" y="9414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Model (RPMA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5866920" y="6248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i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9"/>
          <p:cNvSpPr/>
          <p:nvPr/>
        </p:nvSpPr>
        <p:spPr>
          <a:xfrm>
            <a:off x="685800" y="2476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oint of Aerosol Thermodynam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1219320" y="1295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IF ( 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523880" y="3079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6"/>
          <p:cNvSpPr/>
          <p:nvPr/>
        </p:nvSpPr>
        <p:spPr>
          <a:xfrm flipH="1">
            <a:off x="304920" y="3352680"/>
            <a:ext cx="12189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1295280" y="367344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LSEIF ( B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523880" y="5518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0"/>
          <p:cNvSpPr/>
          <p:nvPr/>
        </p:nvSpPr>
        <p:spPr>
          <a:xfrm flipH="1">
            <a:off x="304920" y="579132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1310400" y="591336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1626480" y="26370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603"/>
                </a:solidFill>
                <a:latin typeface="Monaco"/>
              </a:rPr>
              <a:t>DID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1625040" y="499896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603"/>
                </a:solidFill>
                <a:latin typeface="Monaco"/>
              </a:rPr>
              <a:t>DID 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457200" y="6553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 flipV="1">
            <a:off x="6781680" y="4267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8"/>
          <p:cNvSpPr/>
          <p:nvPr/>
        </p:nvSpPr>
        <p:spPr>
          <a:xfrm flipV="1">
            <a:off x="6934320" y="28954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9"/>
          <p:cNvSpPr/>
          <p:nvPr/>
        </p:nvSpPr>
        <p:spPr>
          <a:xfrm flipH="1" flipV="1">
            <a:off x="5866920" y="29718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5866920" y="6248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i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3352680" y="2895480"/>
            <a:ext cx="914400" cy="2362320"/>
          </a:xfrm>
          <a:custGeom>
            <a:avLst/>
            <a:gdLst>
              <a:gd name="textAreaLeft" fmla="*/ 0 w 914400"/>
              <a:gd name="textAreaRight" fmla="*/ 330120 w 9144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4495680" y="40719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"/>
          <p:cNvSpPr/>
          <p:nvPr/>
        </p:nvSpPr>
        <p:spPr>
          <a:xfrm>
            <a:off x="171360" y="76320"/>
            <a:ext cx="898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oint of Aerosol Thermo: </a:t>
            </a:r>
            <a:r>
              <a:rPr b="1" lang="en-US" sz="3600" spc="-1" strike="noStrike">
                <a:solidFill>
                  <a:srgbClr val="ff0603"/>
                </a:solidFill>
                <a:latin typeface="Times New Roman"/>
              </a:rPr>
              <a:t>Preprocessin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752400" y="1336680"/>
            <a:ext cx="40968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720" y="9414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0"/>
          <p:cNvSpPr/>
          <p:nvPr/>
        </p:nvSpPr>
        <p:spPr>
          <a:xfrm>
            <a:off x="1619280" y="182880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1600200" y="414648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4648320" y="1828800"/>
            <a:ext cx="1981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d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3"/>
          <p:cNvSpPr/>
          <p:nvPr/>
        </p:nvSpPr>
        <p:spPr>
          <a:xfrm>
            <a:off x="6858000" y="1828800"/>
            <a:ext cx="2133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d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1219320" y="1295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IF ( 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523880" y="3079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6"/>
          <p:cNvSpPr/>
          <p:nvPr/>
        </p:nvSpPr>
        <p:spPr>
          <a:xfrm flipH="1">
            <a:off x="304920" y="3352680"/>
            <a:ext cx="12189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295280" y="367344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LSEIF ( B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1523880" y="5518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"/>
          <p:cNvSpPr/>
          <p:nvPr/>
        </p:nvSpPr>
        <p:spPr>
          <a:xfrm flipH="1">
            <a:off x="304920" y="579132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310400" y="591336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1626480" y="26370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ID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625040" y="499896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ID 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4"/>
          <p:cNvSpPr/>
          <p:nvPr/>
        </p:nvSpPr>
        <p:spPr>
          <a:xfrm>
            <a:off x="457200" y="6553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5"/>
          <p:cNvSpPr/>
          <p:nvPr/>
        </p:nvSpPr>
        <p:spPr>
          <a:xfrm flipV="1">
            <a:off x="6781680" y="4267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8"/>
          <p:cNvSpPr/>
          <p:nvPr/>
        </p:nvSpPr>
        <p:spPr>
          <a:xfrm flipV="1">
            <a:off x="6934320" y="28954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9"/>
          <p:cNvSpPr/>
          <p:nvPr/>
        </p:nvSpPr>
        <p:spPr>
          <a:xfrm flipH="1" flipV="1">
            <a:off x="5866920" y="29718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5866920" y="6248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i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5487840" y="93816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603"/>
                </a:solidFill>
                <a:latin typeface="Times New Roman"/>
              </a:rPr>
              <a:t>Make using TA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26"/>
          <p:cNvSpPr/>
          <p:nvPr/>
        </p:nvSpPr>
        <p:spPr>
          <a:xfrm rot="5400000">
            <a:off x="6619320" y="523800"/>
            <a:ext cx="247680" cy="2057400"/>
          </a:xfrm>
          <a:custGeom>
            <a:avLst/>
            <a:gdLst>
              <a:gd name="textAreaLeft" fmla="*/ 158400 w 247680"/>
              <a:gd name="textAreaRight" fmla="*/ 248040 w 247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7"/>
          <p:cNvSpPr/>
          <p:nvPr/>
        </p:nvSpPr>
        <p:spPr>
          <a:xfrm>
            <a:off x="3352680" y="2895480"/>
            <a:ext cx="914400" cy="2362320"/>
          </a:xfrm>
          <a:custGeom>
            <a:avLst/>
            <a:gdLst>
              <a:gd name="textAreaLeft" fmla="*/ 0 w 914400"/>
              <a:gd name="textAreaRight" fmla="*/ 330120 w 9144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8"/>
          <p:cNvSpPr/>
          <p:nvPr/>
        </p:nvSpPr>
        <p:spPr>
          <a:xfrm>
            <a:off x="4495680" y="40719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29"/>
          <p:cNvSpPr/>
          <p:nvPr/>
        </p:nvSpPr>
        <p:spPr>
          <a:xfrm>
            <a:off x="752400" y="1336680"/>
            <a:ext cx="40968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0"/>
          <p:cNvSpPr/>
          <p:nvPr/>
        </p:nvSpPr>
        <p:spPr>
          <a:xfrm>
            <a:off x="720" y="9414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158760" y="76320"/>
            <a:ext cx="898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oint of Aerosol Thermo: </a:t>
            </a:r>
            <a:r>
              <a:rPr b="1" lang="en-US" sz="3600" spc="-1" strike="noStrike">
                <a:solidFill>
                  <a:srgbClr val="ff0603"/>
                </a:solidFill>
                <a:latin typeface="Times New Roman"/>
              </a:rPr>
              <a:t>Apply A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1619280" y="182880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1600200" y="414648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4648320" y="1828800"/>
            <a:ext cx="1981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d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35"/>
          <p:cNvSpPr/>
          <p:nvPr/>
        </p:nvSpPr>
        <p:spPr>
          <a:xfrm>
            <a:off x="6858000" y="1828800"/>
            <a:ext cx="2133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djoi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1219320" y="1295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IF ( 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523880" y="3079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"/>
          <p:cNvSpPr/>
          <p:nvPr/>
        </p:nvSpPr>
        <p:spPr>
          <a:xfrm flipH="1">
            <a:off x="304920" y="3352680"/>
            <a:ext cx="12189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295280" y="367344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LSEIF ( B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1523880" y="5518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"/>
          <p:cNvSpPr/>
          <p:nvPr/>
        </p:nvSpPr>
        <p:spPr>
          <a:xfrm flipH="1">
            <a:off x="304920" y="579132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1310400" y="591336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1626480" y="26370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ID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1625040" y="499896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ID 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4"/>
          <p:cNvSpPr/>
          <p:nvPr/>
        </p:nvSpPr>
        <p:spPr>
          <a:xfrm>
            <a:off x="457200" y="6553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5"/>
          <p:cNvSpPr/>
          <p:nvPr/>
        </p:nvSpPr>
        <p:spPr>
          <a:xfrm flipV="1">
            <a:off x="6781680" y="4267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8"/>
          <p:cNvSpPr/>
          <p:nvPr/>
        </p:nvSpPr>
        <p:spPr>
          <a:xfrm flipV="1">
            <a:off x="6934320" y="28954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9"/>
          <p:cNvSpPr/>
          <p:nvPr/>
        </p:nvSpPr>
        <p:spPr>
          <a:xfrm flipH="1" flipV="1">
            <a:off x="5866920" y="29718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5866920" y="6248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i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5"/>
          <p:cNvSpPr/>
          <p:nvPr/>
        </p:nvSpPr>
        <p:spPr>
          <a:xfrm>
            <a:off x="3352680" y="2895480"/>
            <a:ext cx="914400" cy="2362320"/>
          </a:xfrm>
          <a:custGeom>
            <a:avLst/>
            <a:gdLst>
              <a:gd name="textAreaLeft" fmla="*/ 0 w 914400"/>
              <a:gd name="textAreaRight" fmla="*/ 330120 w 9144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6"/>
          <p:cNvSpPr/>
          <p:nvPr/>
        </p:nvSpPr>
        <p:spPr>
          <a:xfrm>
            <a:off x="4036320" y="3460680"/>
            <a:ext cx="174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603"/>
                </a:solidFill>
                <a:latin typeface="Times New Roman"/>
              </a:rPr>
              <a:t>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603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603"/>
                </a:solidFill>
                <a:latin typeface="Times New Roman"/>
              </a:rPr>
              <a:t>Recalcu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7"/>
          <p:cNvSpPr/>
          <p:nvPr/>
        </p:nvSpPr>
        <p:spPr>
          <a:xfrm>
            <a:off x="5867280" y="4114800"/>
            <a:ext cx="609840" cy="0"/>
          </a:xfrm>
          <a:prstGeom prst="line">
            <a:avLst/>
          </a:prstGeom>
          <a:ln w="9360">
            <a:solidFill>
              <a:srgbClr val="ff060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28"/>
          <p:cNvSpPr/>
          <p:nvPr/>
        </p:nvSpPr>
        <p:spPr>
          <a:xfrm>
            <a:off x="752400" y="1336680"/>
            <a:ext cx="40968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29"/>
          <p:cNvSpPr/>
          <p:nvPr/>
        </p:nvSpPr>
        <p:spPr>
          <a:xfrm>
            <a:off x="720" y="9414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0"/>
          <p:cNvSpPr/>
          <p:nvPr/>
        </p:nvSpPr>
        <p:spPr>
          <a:xfrm>
            <a:off x="5487840" y="93816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sing TA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31"/>
          <p:cNvSpPr/>
          <p:nvPr/>
        </p:nvSpPr>
        <p:spPr>
          <a:xfrm rot="5400000">
            <a:off x="6619320" y="523800"/>
            <a:ext cx="247680" cy="2057400"/>
          </a:xfrm>
          <a:custGeom>
            <a:avLst/>
            <a:gdLst>
              <a:gd name="textAreaLeft" fmla="*/ 158400 w 247680"/>
              <a:gd name="textAreaRight" fmla="*/ 248040 w 247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2"/>
          <p:cNvSpPr/>
          <p:nvPr/>
        </p:nvSpPr>
        <p:spPr>
          <a:xfrm>
            <a:off x="158760" y="76320"/>
            <a:ext cx="898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oint of Aerosol Thermo: </a:t>
            </a:r>
            <a:r>
              <a:rPr b="1" lang="en-US" sz="3600" spc="-1" strike="noStrike">
                <a:solidFill>
                  <a:srgbClr val="ff0603"/>
                </a:solidFill>
                <a:latin typeface="Times New Roman"/>
              </a:rPr>
              <a:t>Postprocessin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3"/>
          <p:cNvSpPr/>
          <p:nvPr/>
        </p:nvSpPr>
        <p:spPr>
          <a:xfrm>
            <a:off x="1619280" y="182880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34"/>
          <p:cNvSpPr/>
          <p:nvPr/>
        </p:nvSpPr>
        <p:spPr>
          <a:xfrm>
            <a:off x="1600200" y="414648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35"/>
          <p:cNvSpPr/>
          <p:nvPr/>
        </p:nvSpPr>
        <p:spPr>
          <a:xfrm>
            <a:off x="4648320" y="1828800"/>
            <a:ext cx="1981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d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6858000" y="1828800"/>
            <a:ext cx="2133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DO ad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137680" y="22860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ory of the Adjoin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5400" y="1036800"/>
            <a:ext cx="904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djoi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al calculus, optimal control theor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lbert, 50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ed for use in atmospheric data 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archuk, 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Fluid Mechanic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ironneau, 74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ean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ziperman and Thacker, 8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gas phase species in the atmosp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Fisher and Lary, 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CTMs in the last decade, mostly neglecting aeros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ukicevic and Hess, 2000; Elbern et. al., 2000, Sandu et. al, 20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733920" y="3352680"/>
            <a:ext cx="2590560" cy="1447920"/>
          </a:xfrm>
          <a:prstGeom prst="rect">
            <a:avLst/>
          </a:prstGeom>
          <a:solidFill>
            <a:srgbClr val="e36f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85800" y="3352680"/>
            <a:ext cx="25909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943600" y="1866960"/>
            <a:ext cx="1981080" cy="990720"/>
          </a:xfrm>
          <a:prstGeom prst="rect">
            <a:avLst/>
          </a:prstGeom>
          <a:solidFill>
            <a:srgbClr val="c8e5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93600" y="378936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042800" y="378936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oi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1828800" y="28195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1828800" y="49528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 flipV="1">
            <a:off x="7696080" y="3048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6514920" y="38476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2"/>
          <p:cNvSpPr/>
          <p:nvPr/>
        </p:nvSpPr>
        <p:spPr>
          <a:xfrm flipH="1" rot="5400000">
            <a:off x="5447520" y="213336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2590920" y="49528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066680" y="49528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 rot="16200000">
            <a:off x="3390840" y="5676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6"/>
          <p:cNvSpPr/>
          <p:nvPr/>
        </p:nvSpPr>
        <p:spPr>
          <a:xfrm flipH="1" flipV="1">
            <a:off x="4876920" y="495216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7"/>
          <p:cNvSpPr/>
          <p:nvPr/>
        </p:nvSpPr>
        <p:spPr>
          <a:xfrm flipH="1" flipV="1">
            <a:off x="5637960" y="495216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8"/>
          <p:cNvSpPr/>
          <p:nvPr/>
        </p:nvSpPr>
        <p:spPr>
          <a:xfrm flipH="1" flipV="1">
            <a:off x="4114080" y="495216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9" descr="&#10;image-20.tiff                                                  001D6AA9Tybalt                         C0083CD6:"/>
          <p:cNvPicPr/>
          <p:nvPr/>
        </p:nvPicPr>
        <p:blipFill>
          <a:blip r:embed="rId1"/>
          <a:stretch/>
        </p:blipFill>
        <p:spPr>
          <a:xfrm>
            <a:off x="1295280" y="2438280"/>
            <a:ext cx="1613160" cy="317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&#10;image-21.tiff                                                  001D6AA9Tybalt                         C0083CD6:"/>
          <p:cNvPicPr/>
          <p:nvPr/>
        </p:nvPicPr>
        <p:blipFill>
          <a:blip r:embed="rId2"/>
          <a:stretch/>
        </p:blipFill>
        <p:spPr>
          <a:xfrm>
            <a:off x="1447920" y="5562720"/>
            <a:ext cx="1193760" cy="482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&#10;image-26.tiff                                                  001D6AA9Tybalt                         C0083CD6:"/>
          <p:cNvPicPr/>
          <p:nvPr/>
        </p:nvPicPr>
        <p:blipFill>
          <a:blip r:embed="rId3"/>
          <a:stretch/>
        </p:blipFill>
        <p:spPr>
          <a:xfrm>
            <a:off x="4808520" y="2052720"/>
            <a:ext cx="457200" cy="39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&#10;image-32.tiff                                                  001D6AA9Tybalt                         C0083CD6:"/>
          <p:cNvPicPr/>
          <p:nvPr/>
        </p:nvPicPr>
        <p:blipFill>
          <a:blip r:embed="rId4"/>
          <a:stretch/>
        </p:blipFill>
        <p:spPr>
          <a:xfrm>
            <a:off x="4191120" y="5486400"/>
            <a:ext cx="1473120" cy="1079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6"/>
          <p:cNvSpPr/>
          <p:nvPr/>
        </p:nvSpPr>
        <p:spPr>
          <a:xfrm>
            <a:off x="770040" y="432288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24920" y="4322880"/>
            <a:ext cx="3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1219320" y="4572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3815280" y="4322880"/>
            <a:ext cx="3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5875200" y="432288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>
            <a:off x="4267080" y="4572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68580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th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6783480" y="5105520"/>
            <a:ext cx="16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4"/>
          <p:cNvSpPr/>
          <p:nvPr/>
        </p:nvSpPr>
        <p:spPr>
          <a:xfrm>
            <a:off x="4826160" y="93024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caling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5" descr="&#10;image-35.tiff                                                  001D6AA9Tybalt                         C0083CD6:"/>
          <p:cNvPicPr/>
          <p:nvPr/>
        </p:nvPicPr>
        <p:blipFill>
          <a:blip r:embed="rId5"/>
          <a:stretch/>
        </p:blipFill>
        <p:spPr>
          <a:xfrm>
            <a:off x="7010280" y="3886200"/>
            <a:ext cx="179100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6"/>
          <p:cNvSpPr/>
          <p:nvPr/>
        </p:nvSpPr>
        <p:spPr>
          <a:xfrm>
            <a:off x="307440" y="1295280"/>
            <a:ext cx="2094840" cy="459720"/>
          </a:xfrm>
          <a:prstGeom prst="rect">
            <a:avLst/>
          </a:prstGeom>
          <a:solidFill>
            <a:srgbClr val="e1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7"/>
          <p:cNvSpPr/>
          <p:nvPr/>
        </p:nvSpPr>
        <p:spPr>
          <a:xfrm>
            <a:off x="304920" y="1295280"/>
            <a:ext cx="8610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8"/>
          <p:cNvSpPr/>
          <p:nvPr/>
        </p:nvSpPr>
        <p:spPr>
          <a:xfrm>
            <a:off x="277920" y="228600"/>
            <a:ext cx="8637480" cy="914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rse Modeling using Adjoin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7" descr="PastedGraphic-1.pdf"/>
          <p:cNvPicPr/>
          <p:nvPr/>
        </p:nvPicPr>
        <p:blipFill>
          <a:blip r:embed="rId6"/>
          <a:stretch/>
        </p:blipFill>
        <p:spPr>
          <a:xfrm>
            <a:off x="6083280" y="6048360"/>
            <a:ext cx="2467080" cy="422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9" descr="PastedGraphic-2.pdf"/>
          <p:cNvPicPr/>
          <p:nvPr/>
        </p:nvPicPr>
        <p:blipFill>
          <a:blip r:embed="rId7"/>
          <a:stretch/>
        </p:blipFill>
        <p:spPr>
          <a:xfrm>
            <a:off x="5746680" y="5584680"/>
            <a:ext cx="31640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629360" y="25560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 to the Adjoin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34000" y="1442880"/>
            <a:ext cx="347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use this approach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8320" y="353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162080" y="2106720"/>
            <a:ext cx="74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int modeling i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s of calculating the gradient of the cost function with respect to model parameters, boundary, and initial condition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53080" y="4532400"/>
            <a:ext cx="751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, but how do we make this “adjoint model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approa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: start from govern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: start from computer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595960" y="358920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&lt;  time(adjoint) / time(forward) &l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83240" y="123336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the simple 1D advection equation for trac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3920" y="3516480"/>
            <a:ext cx="39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 the cost 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&#13;image-158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1349280" y="2224080"/>
            <a:ext cx="2747880" cy="93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&#13;image-159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789120" y="4156200"/>
            <a:ext cx="7540560" cy="9428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5"/>
          <p:cNvGrpSpPr/>
          <p:nvPr/>
        </p:nvGrpSpPr>
        <p:grpSpPr>
          <a:xfrm>
            <a:off x="4784760" y="2286000"/>
            <a:ext cx="2790720" cy="887400"/>
            <a:chOff x="4784760" y="2286000"/>
            <a:chExt cx="2790720" cy="887400"/>
          </a:xfrm>
        </p:grpSpPr>
        <p:pic>
          <p:nvPicPr>
            <p:cNvPr id="107" name="Picture 13" descr="&#13;image-179.pdf                                                  003AFEF5_x0006_Tybalt                         BBC80D2A:"/>
            <p:cNvPicPr/>
            <p:nvPr/>
          </p:nvPicPr>
          <p:blipFill>
            <a:blip r:embed="rId3"/>
            <a:stretch/>
          </p:blipFill>
          <p:spPr>
            <a:xfrm>
              <a:off x="4789440" y="2286000"/>
              <a:ext cx="177012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4" descr="&#13;image-180.pdf                                                  003AFEF5_x0006_Tybalt                         BBC80D2A:"/>
            <p:cNvPicPr/>
            <p:nvPr/>
          </p:nvPicPr>
          <p:blipFill>
            <a:blip r:embed="rId4"/>
            <a:stretch/>
          </p:blipFill>
          <p:spPr>
            <a:xfrm>
              <a:off x="4784760" y="2771640"/>
              <a:ext cx="2790720" cy="4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 Box 16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453600" y="5527800"/>
            <a:ext cx="42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ocal cos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&#13;image-224.pdf                                                  003AFEF5_x0006_Tybalt                         BBC80D2A:"/>
          <p:cNvPicPr/>
          <p:nvPr/>
        </p:nvPicPr>
        <p:blipFill>
          <a:blip r:embed="rId5"/>
          <a:stretch/>
        </p:blipFill>
        <p:spPr>
          <a:xfrm>
            <a:off x="1139760" y="5923080"/>
            <a:ext cx="617076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30320" y="142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variation  (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-1800" y="3600360"/>
            <a:ext cx="77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e by parts to generate adjoint equation,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7680" y="5140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6" descr="&#13;image-160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423720" y="2079720"/>
            <a:ext cx="8318520" cy="63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&#13;image-161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425520" y="4197240"/>
            <a:ext cx="748800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&#13;image-162.pdf                                                  003AFEF5_x0006_Tybalt                         BBC80D2A:"/>
          <p:cNvPicPr/>
          <p:nvPr/>
        </p:nvPicPr>
        <p:blipFill>
          <a:blip r:embed="rId3"/>
          <a:stretch/>
        </p:blipFill>
        <p:spPr>
          <a:xfrm>
            <a:off x="942840" y="5254560"/>
            <a:ext cx="4819680" cy="879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9"/>
          <p:cNvSpPr/>
          <p:nvPr/>
        </p:nvSpPr>
        <p:spPr>
          <a:xfrm>
            <a:off x="3584520" y="1962000"/>
            <a:ext cx="1284480" cy="874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929760" y="29242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247680" y="5311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3" descr="&#13;image-161.pdf                                                  003AFEF5_x0006_Tybalt                         BBC80D2A:"/>
          <p:cNvPicPr/>
          <p:nvPr/>
        </p:nvPicPr>
        <p:blipFill>
          <a:blip r:embed="rId1"/>
          <a:stretch/>
        </p:blipFill>
        <p:spPr>
          <a:xfrm>
            <a:off x="679320" y="1557360"/>
            <a:ext cx="7488360" cy="90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&#13;image-162.pdf                                                  003AFEF5_x0006_Tybalt                         BBC80D2A:"/>
          <p:cNvPicPr/>
          <p:nvPr/>
        </p:nvPicPr>
        <p:blipFill>
          <a:blip r:embed="rId2"/>
          <a:stretch/>
        </p:blipFill>
        <p:spPr>
          <a:xfrm>
            <a:off x="2336760" y="2637000"/>
            <a:ext cx="5553000" cy="1012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190080" y="10350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400400" y="19512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ing the Continuous Ad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2:20:37Z</dcterms:created>
  <dc:creator>Daven Henze</dc:creator>
  <dc:description/>
  <dc:language>en-US</dc:language>
  <cp:lastModifiedBy>Daven Henze</cp:lastModifiedBy>
  <cp:lastPrinted>2005-04-22T15:07:02Z</cp:lastPrinted>
  <dcterms:modified xsi:type="dcterms:W3CDTF">2011-05-04T12:57:52Z</dcterms:modified>
  <cp:revision>52</cp:revision>
  <dc:subject/>
  <dc:title>PowerPoint Presentation</dc:title>
</cp:coreProperties>
</file>